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FB8C-EB33-4E1E-A713-7D195808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5B4E-AAAF-4C88-9524-5AF375D9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E5C4-694D-47EE-B93A-1F8C9722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0833-7726-4160-8043-60DBBAA1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67E4-CAD7-4302-8BFB-4EA0CE64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7114-B1E9-4A21-BAFE-3920446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230F-3B4A-4A57-8942-930DE97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6EDB-22B2-43E6-AB82-1470CBD6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3E87-0531-4693-BC49-3FE9EA4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F7BA-0345-47F2-8807-FB860D3C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E0D-C960-43AA-A433-00E2C8D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4FCF-6DA3-49E3-BA3B-A7E598B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CE6-54E9-4686-8323-CFDD952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737B-6728-4C1B-BE7C-68EFCB6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829-BCFF-47FA-BA5B-8102B93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7607-D112-4948-88DC-30C563BF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6C8-7616-4A3E-A5E2-D8DC3819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F63C-C0CA-42B8-BFAB-87C59D86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E54E-602E-4400-A5D5-396009C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38FC-34F5-4824-94EE-4C9D27A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8EEC-3C78-4ACB-B947-04594BB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C2BD-4646-4EA6-8745-A5BD8EDC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4014-5B2A-4975-B6A3-F072647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4A8B-0573-4D93-95B2-FFC61C4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26BC79-7540-4D7D-9721-6B90AD2FCBD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4C708C-7154-47CE-9075-0F2908B2F0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2060280"/>
            <a:ext cx="611964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нсовый контроль  в деятельности заместителя директора по учеб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98600" y="436572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Томшинская Е.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Зам. директора  ОГАПОУ «Старооскольский медици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18.10.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:\Фоновый рисунок средства просмотра фотографий Windows.jpg"/>
          <p:cNvPicPr/>
          <p:nvPr/>
        </p:nvPicPr>
        <p:blipFill>
          <a:blip r:embed="rId1"/>
          <a:stretch/>
        </p:blipFill>
        <p:spPr>
          <a:xfrm>
            <a:off x="30240" y="4211640"/>
            <a:ext cx="4761000" cy="26035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382920" y="47628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гиональное учебно-методическое объедин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местителей директоров по У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076280" y="115920"/>
            <a:ext cx="42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инистерство образования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924280"/>
          <a:ext cx="8280360" cy="2103480"/>
        </p:xfrm>
        <a:graphic>
          <a:graphicData uri="http://schemas.openxmlformats.org/drawingml/2006/table">
            <a:tbl>
              <a:tblPr/>
              <a:tblGrid>
                <a:gridCol w="453960"/>
                <a:gridCol w="3016440"/>
                <a:gridCol w="2454120"/>
                <a:gridCol w="2355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 правоустанавливающих докум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цензия на осуществление образователь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идетельство  о государственной аккредит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чень реализуемых образовательных програм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тинг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3CF86E-0C64-424F-8AE3-FFDBF4319A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413000"/>
          <a:ext cx="8713800" cy="524196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 педагогической нагрузке, тарификационный список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Рабочий учебный пл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аудиторных часов  на группу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оретические занятия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ктические занятия, основания для деления на подгруппы 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ое руководство практик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сультации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овая  и промежуточная аттестац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Реализация программ углубленной подготов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 Записи  в учебных журналах, соответствие расписан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Контингент обучающихся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обучающихся в группе, подгруппе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мика континг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эффициент наполняемости групп, подгруп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академическом отпуске., восстановлении ит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Гарантированные надбавки и допла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 детей сирот, детей инвалидов (с подтверждающими документами, сроки изменения статус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раторство: приказы о назначении курат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ведование учебными кабинетами.. (приказ и наличие кабинет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уководство  ЦМК (приказ о составе ЦМ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ведование отделениями (приказ о наличии отделен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исьменных работ (соответствие РУП, приказ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Выплаты компенсационного характ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 Количество педагогических часов и результаты СО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700280"/>
          <a:ext cx="8713800" cy="323208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 педагогической нагрузке, тарификационный список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Стимулирующие выпла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снованность назначения доплат за ученую степень, наличие  государственных и отраслевых наград. (приказы, личные дел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плата за стаж работы (личные дела, трудовые книж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Фактическое выполнение педагогической нагруз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ет выполненной нагруз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снованность уменьшения педнагрузки (приказы, расче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выполнении  педнагрузки по итогам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влечение совместите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ичные де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можность совмещения в рабочее время (проведение практических занятий на базах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афики работы по основному месту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на оплату за проведенные пед ча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3186C5-97E7-4984-958F-83A6C58FCD1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700280"/>
          <a:ext cx="8713800" cy="416088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исполнения государственных заданий, основные показате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сударственные задания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чет о выполнении государственного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ка…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едения о численности обучающихс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месячный учет числ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допустимых отклонен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равильности расходования средств на выплату стипенд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пенд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ипендиальные ведом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УП,  локальные ак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одные ведо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ки о праве на социальную стипенд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правомерности расходования средств на социальную защиту сиро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пендий, выпл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т документов подтверждающий социальный 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зачислении, отчислении, переводах, академическом отпуск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исочный состав в учебных журнал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FFA6AE-1EE6-4139-A781-0B64D50D9A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4920" cy="698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рок финансовой проверки: июнь 2023 г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нтролируемый период: 01.01.2021 – 31.12.202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700280"/>
          <a:ext cx="8713800" cy="3994200"/>
        </p:xfrm>
        <a:graphic>
          <a:graphicData uri="http://schemas.openxmlformats.org/drawingml/2006/table">
            <a:tbl>
              <a:tblPr/>
              <a:tblGrid>
                <a:gridCol w="312840"/>
                <a:gridCol w="1311120"/>
                <a:gridCol w="1256040"/>
                <a:gridCol w="1403280"/>
                <a:gridCol w="4430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тветств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ходование средств на оплату тру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 о назначении стимулирующих выпл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окальный 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и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а о составе коми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токола заседания коми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сональных к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тверждающих документов по каждому пункту, соответствие документов – пункту, разделу, срока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ьный расчет количества бал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ы о премирова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Локальный 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каза о премиров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омочность  выпл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ка эффективности использования материально-технической ба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ьность учета  и списания нефинансовых актив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омерность расходования средств на питание  обучающихся  ит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F31C48-CEF8-4FBF-8025-0312642A505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13012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User</cp:lastModifiedBy>
  <dcterms:modified xsi:type="dcterms:W3CDTF">2024-10-17T21:35:17Z</dcterms:modified>
  <cp:revision>6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